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E76E-2E76-47AD-B4C7-370C39F8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2351-19B9-4FA0-AD09-54E62433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E721D-B130-4431-87D9-23A5AC9E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E2108-7C74-4F43-B270-7E73E729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8E716-60AE-4C2C-AF17-47C2BA35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610AC-96E9-47B5-B0C5-6CBBA76B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ADB8B-EB30-43F3-A8FF-87840896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965DD-28B6-4A9C-B969-659B1ED8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B59AB-2EE2-46B6-880F-E0C17892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BF635-3DE7-4107-91CC-DA08AD3E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3E909-2B20-4503-ADFC-D2F836E8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2DC0-9EF9-46B0-AE70-24446054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B902-F1E9-4659-9293-09443B53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845E-2745-4605-BC6B-B830C0D4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4FAC-E2A1-43F3-AF40-C222FE02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7DFC-DF22-4405-AC47-55929BF1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4595-637C-423B-AA15-28184DA5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C2AF-59F1-489B-80A4-B02F1177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475C-2A57-44E0-856E-90C7F88B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2D9C-EB28-4453-A53C-F5FF739B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6D30-1EF4-4FE5-B8C0-4E96A5BC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195B-E14D-4AE8-B48D-C6A023CA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3B62-C161-430E-905E-DA542B1C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F99A-78CA-4C60-9E4D-067F9039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7639-54A1-4330-908E-B9DFCB87B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A682-2DEE-47A7-AE85-B0E21D82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A47BB-3945-4C3C-B6AD-3A8F4099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48EA7-27E3-4D1D-B5C7-77DABAFC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4857B-532C-49AE-805D-FEE1F328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9163D-8284-4406-987F-4AB746AC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8956E-2DD4-4A7A-9FB9-E0976BDE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C0AF-BCEE-4FB2-BA4F-0E2D044B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B5498-B243-45E5-9720-7DBB5438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5E7F2-4EF8-4D17-B6B1-C76E1F42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79997-6AF1-427D-89F2-51EBFD19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04814-F0F8-4131-A47E-28408BF1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814EE-3AFA-458A-9383-BCD5C2D2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CDF43-ABB6-410D-A97F-F85C51B3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E53EE-2663-427A-8408-A7817E90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79800-4A0A-489F-BE0D-B369B5F2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A938D-23FC-4A5C-9FC8-461DDFAD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A778F-16DC-4C53-815A-C8FC5EDA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7513-E98A-477E-A54A-D2D51246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0A324-AF74-456D-9362-20BE8A5D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41E98-B5C5-4A59-A9C3-EC1D5117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A00EF-4525-472C-8C95-CE80DB73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A7E4D-92A9-4E20-93F1-4ADBD67D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9302C-E00C-476D-B5AE-59C48D94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3D1A7-225E-44F3-A05E-48BB3A09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96987-763C-46E8-AF9E-607ACAD6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BF99F-4813-439C-9AC9-1ACA0419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D5C21-BCD1-47C3-94BC-057DBAB8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8519C-1439-4BF9-A5B6-EA328189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ACEB-8A51-4DCE-8917-BF68BCF6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926BC-0415-4065-A4A9-A9FAE86D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F88D4-A286-4BE2-98BB-9EE374BE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00014-A3E0-42F6-8987-F8261082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DAB51-0AA6-4631-8D3C-24DAA1C4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3E027-D4DC-42E7-BFFD-A0BC8F1A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97C7F-20EF-486A-B3EF-7BBC5B6D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AF519-F74D-4554-87F0-1A8CB2A6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AECE2-E436-4521-AF52-F21BCDC0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2F208-5E6E-4123-A8CE-EDCA669C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7BE0A-5F4C-4961-B79A-CBCC6417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69A3-3665-447D-92F7-7E0D38DA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8CB0C-2D2C-4307-ACFE-4CE2F210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F4AF7-D24D-47E0-BEFA-EB3D0EB7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506DB-E4B5-4C39-97B4-FCFF2694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592D3-9C9F-48C2-82A9-6E1D7414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4BBE2-C69D-4A62-BBA0-23A2EF18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9C4E3-89A6-440E-9E10-9DBC8C28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42D21-8167-4641-AE05-486023DD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CC410-4BB3-419C-B099-BBA369F9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F62A4-79E9-488A-9DF4-88375DD8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F915F-C763-4191-941D-13C269F9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33D4-78F9-4635-9799-83EE0D73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36097-66AD-40C7-8108-5586398F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33408-189D-41D9-9040-91B797AB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63FFF-1FAF-4700-BF8F-CEC52788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AB760-592B-4E35-B071-6B9005D6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C8DCF-42D0-4860-8930-5A1D5375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943EC-1B08-43F2-8121-987814F6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9EFB9-6BCB-495D-AC4A-70B59210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4EC9C-3A4A-40D0-9E87-7FA27788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2839C-8C68-4DCA-B01C-6AC0F633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B52A8-7074-453E-9200-83CB8B84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2142-4FB1-4910-9C46-910D9B39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0A986-A5FC-4011-8E09-1988DE81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62C98-78E1-481B-A848-3A266056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FCE7A-CD0D-4921-B883-78AD559B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43F8A-DD64-4F57-9206-B4C176F4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F6923-4A76-4414-A01B-19717173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18A10-618E-4BD4-B528-7C04E5B8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5DAC4-C366-40DE-8469-5B82BC51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9A5DC-1A91-4339-8B25-AE65A313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A9C2D-87F6-482E-84DA-40C3FFAC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DCA98-5DDE-49FE-80C8-99EA7757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0510-1ECF-4F2D-A1A0-10B16F9C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3746A-DFB5-4101-A161-389BD23C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5DBE0-9CBB-4063-8572-DC771852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AF57D-6C7A-4E9E-968D-7719A3A4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6B717-F4AA-4524-BA5D-0D55BF7E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EC788-7D0B-45E9-A625-88C3660F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FA1E3-E3B8-448E-9251-2BC572D2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17756-FF7C-46DF-BFAF-31A24BF5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3D9D1-4414-4340-9F9C-3DF46F14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02826-08B5-4F0B-968A-B52670D3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12382-0AF8-4497-BF4B-91D67DC3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E664-ECA0-4D05-BBAF-021B464F11F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4BB0-55FE-4D03-A3A8-5058A9F177C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A776-AFE6-4FC8-B977-2C1A8D246DC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6431-0DFD-4CD2-AC95-0057AD37038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4E5F-44B7-4240-A8BE-E5766D0D33B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704C-3047-49C3-9F16-ADFA903F817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5861-D47B-4D17-B44B-EA4B5F79093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B743-BC57-4895-91A1-138CF3E6C43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285F-A805-48DC-ABDA-8D4CCC76875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Español Cultura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http://www.mydish.co.uk/interface/members/237323/200972812568466-903966-384282-802476.jpg"/>
          <p:cNvPicPr/>
          <p:nvPr/>
        </p:nvPicPr>
        <p:blipFill>
          <a:blip r:embed="rId1"/>
          <a:stretch/>
        </p:blipFill>
        <p:spPr>
          <a:xfrm>
            <a:off x="0" y="0"/>
            <a:ext cx="8810640" cy="66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http://www.andrics.com/images/Paella1.jpg"/>
          <p:cNvPicPr/>
          <p:nvPr/>
        </p:nvPicPr>
        <p:blipFill>
          <a:blip r:embed="rId1"/>
          <a:stretch/>
        </p:blipFill>
        <p:spPr>
          <a:xfrm>
            <a:off x="63360" y="-136440"/>
            <a:ext cx="9048960" cy="80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Picture - vegetarian paella &#10;- spanish rice. &#10;fotosearch - search &#10;stock photos, &#10;pictures, images, &#10;and photo clipart"/>
          <p:cNvPicPr/>
          <p:nvPr/>
        </p:nvPicPr>
        <p:blipFill>
          <a:blip r:embed="rId1"/>
          <a:stretch/>
        </p:blipFill>
        <p:spPr>
          <a:xfrm>
            <a:off x="685800" y="1143000"/>
            <a:ext cx="6993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1" descr="Food. Spanish paella Royalty Free Stock Photo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http://z.about.com/d/spanishfood/1/0/c/7/-/-/tortilla-whole450x379.jpg"/>
          <p:cNvPicPr/>
          <p:nvPr/>
        </p:nvPicPr>
        <p:blipFill>
          <a:blip r:embed="rId1"/>
          <a:stretch/>
        </p:blipFill>
        <p:spPr>
          <a:xfrm>
            <a:off x="838080" y="304920"/>
            <a:ext cx="7480440" cy="63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http://farm3.static.flickr.com/2174/2342052637_9511dc2aac.jpg"/>
          <p:cNvPicPr/>
          <p:nvPr/>
        </p:nvPicPr>
        <p:blipFill>
          <a:blip r:embed="rId1"/>
          <a:stretch/>
        </p:blipFill>
        <p:spPr>
          <a:xfrm>
            <a:off x="380880" y="609480"/>
            <a:ext cx="4762800" cy="31626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http://static.ifood.tv/files/Tortilla_%20Espanola.jpg"/>
          <p:cNvPicPr/>
          <p:nvPr/>
        </p:nvPicPr>
        <p:blipFill>
          <a:blip r:embed="rId2"/>
          <a:stretch/>
        </p:blipFill>
        <p:spPr>
          <a:xfrm>
            <a:off x="3886200" y="3352680"/>
            <a:ext cx="463860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http://winewriter.files.wordpress.com/2008/10/flan.jpg"/>
          <p:cNvPicPr/>
          <p:nvPr/>
        </p:nvPicPr>
        <p:blipFill>
          <a:blip r:embed="rId1"/>
          <a:stretch/>
        </p:blipFill>
        <p:spPr>
          <a:xfrm>
            <a:off x="2438280" y="609480"/>
            <a:ext cx="419112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3:52:42Z</dcterms:created>
  <dc:creator> </dc:creator>
  <dc:description/>
  <dc:language>en-US</dc:language>
  <cp:lastModifiedBy> </cp:lastModifiedBy>
  <dcterms:modified xsi:type="dcterms:W3CDTF">2010-04-12T19:48:26Z</dcterms:modified>
  <cp:revision>2</cp:revision>
  <dc:subject/>
  <dc:title>Paella y Tortilla Espanola</dc:title>
</cp:coreProperties>
</file>